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D91-FC38-438D-8B99-9855C84E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31E-E763-41E8-9CD5-A2F73144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179-7B0D-4C31-9B99-60FA224B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D1B-148C-4A7E-A253-03DD8110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6B8-C885-4BFB-884A-A42182A0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8D8-1359-4200-9783-1CC822B7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8C04-E767-493A-98FF-D6C7E19F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278-5034-4034-8B18-6F7F47C1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CE6-13BD-46F0-BEEA-0C0A486B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640-92FD-41C4-969D-52BDBCC3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FAD-EA8F-4A73-BF3A-246C91E2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CDB-1651-4FE4-AEAF-A33F5C0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EF90-22E7-4F9E-A755-422583ABC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0 Moje srdce stále túž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je srdce stále túž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tebe môj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i verne, ticho slú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ty si slúžil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vďačnosti a z lásky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tebe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stierom keď ty si moj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usím sa nikdy b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die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do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4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chceš aj pri mne st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vďačnosti a z lásky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tebe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za mňa mrel na kríž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u mám v tebe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raz viac sa preto blí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celým srdcom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vďačnosti a z lásky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tebe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ti, drahý Spasiteľ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celý zasvät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m, že dovedieš ma k cieľ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áš mi večne s tebou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vďačnosti a z lásky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tebe 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05:33:08Z</dcterms:modified>
  <cp:revision>20</cp:revision>
  <dc:subject/>
  <dc:title>Je veľký náš Pán, on slávy je Kráľ Nech do všetkých strán  spev vrúcnych znie chvál.</dc:title>
</cp:coreProperties>
</file>